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52A3C-63E6-4FCB-A205-28DE2FD1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46985-2557-4F4A-A01F-D8BC9779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FBFC0-CB32-49B5-A961-53092F31D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894EB-A915-4471-8160-D93F351B2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77F595-125D-41C7-A274-850E6DE9BB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9FAEC-67F4-4CA3-A27E-790C8D1CCF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3B635-C9B3-4E3F-9E1A-29E9D6F9E3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16BFD-9FC1-4099-894B-A26B418428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5065F-A7C8-49F8-A206-4ED97A39C0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F17A7-CFD1-4990-90D5-3339B555AC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BE10A-059B-4BE4-AD7A-C88681026F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883C-5567-4646-B81C-9690956C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3D1BE-A179-4B09-B7DB-330266790B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DEF99-937B-4935-AC79-0EF6F5A268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56A0FD-9E67-429C-AA2D-70301C9928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589E3C-FC2C-4EEA-8817-A196FB15A6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D381F1-FC97-4132-AD73-C1134AF64F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FE62F-8CC7-4C9F-AC42-CD99E27A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39688-0479-4833-BDDD-40EA5DDCF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9787-F1F1-4051-8067-D9CAE427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07E8-229B-434B-AB84-0C0B7AB02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CA8D-088B-4F00-9CBE-3C0928F96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E29B-0866-4B03-BF74-8CA7E9BF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23BA-1ED4-4E62-8DA6-7FFC1EEB1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8197-D205-4453-9062-DE3F0859BB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2C9B-DC7F-4A84-B50D-49193A413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s many enemies and becoming a danger to other countries. Then later in 1853 Russia fights Britain, France, Sardini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Ottoman Empire in the Crimean War. Russia was later forced to accept peace settlement dictated by its opponents. In 1885 Great Britain is recognized as an enemy. Later in 1891 the great famine kills 500,000 people.</a:t>
            </a:r>
            <a:endParaRPr b="0" lang="en-US" sz="28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 BLOODY GENERATI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04 Japan attacks Russian in Manchuria and Korea.</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pan destroys the Russian fleet at the battle of Tsushima, Russia withdraws from Manchuria, loses Sakhalin, this is the first time that a non-European country defeats a European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900-1917 more than 4,400 people died in terrorist attack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A BLOODY GENERATION                                </a:t>
            </a:r>
            <a:br>
              <a:rPr sz="4000"/>
            </a:br>
            <a:r>
              <a:rPr b="0" lang="en-US" sz="4000" spc="-1" strike="noStrike">
                <a:solidFill>
                  <a:srgbClr val="ffffff"/>
                </a:solidFill>
                <a:latin typeface="Tahoma"/>
              </a:rPr>
              <a:t>                (continued)</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14, World War I breaks out in the Balkans, pitting Britain, France, Italy, Russia, Serbia, USA and Japan against Austria, Germany and Turkey (400,000 Russian soldiers die in 1914 alon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16 Russia has already suffered almost 2 million deaths in WW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1676520" y="2057400"/>
            <a:ext cx="5715000" cy="36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QPS</cp:lastModifiedBy>
  <dcterms:modified xsi:type="dcterms:W3CDTF">2010-04-29T01:24:07Z</dcterms:modified>
  <cp:revision>8</cp:revision>
  <dc:subject/>
  <dc:title>History from 1700-1917</dc:title>
</cp:coreProperties>
</file>